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9B18-4526-4329-A382-00450FEBE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2331-F659-41B1-A0C2-53125778F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AA84-E420-450D-84AB-054A7C1D9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1C11-B2B6-4AC6-92D6-778B5680A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C3F1-80DD-4C58-8F71-59E1B315F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0393-EFF7-4E7F-BA03-63D98A21D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EF34-1949-4D19-B546-33FC85755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7934-67AA-47D7-8C66-5504CBF2E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34680"/>
            <a:ext cx="81565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5E16-18B4-492D-8845-3D820109B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E2FB-C73E-424B-9E23-87E876C3B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8D5C-BB21-4D7A-A297-24E2087F4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23C7-9BE2-4CEC-B927-D7037EEBF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lista_I"/>
          <p:cNvPicPr/>
          <p:nvPr/>
        </p:nvPicPr>
        <p:blipFill>
          <a:blip r:embed="rId2"/>
          <a:stretch/>
        </p:blipFill>
        <p:spPr>
          <a:xfrm>
            <a:off x="0" y="5043600"/>
            <a:ext cx="9144000" cy="1841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89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948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89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89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948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89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94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89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89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89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133200" y="5300280"/>
            <a:ext cx="478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19489a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406-8F32-4618-A935-DA9D5D522BC8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10920" y="634680"/>
            <a:ext cx="8156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89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pardubickykraj.cz/program-obnovy-venkova" TargetMode="External"/><Relationship Id="rId2" Type="http://schemas.openxmlformats.org/officeDocument/2006/relationships/hyperlink" Target="https://www.pardubickykraj.cz/program-obnovy-venkova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rozvoj-pk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ozvoj-pk.cz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9" descr="titul_I"/>
          <p:cNvPicPr/>
          <p:nvPr/>
        </p:nvPicPr>
        <p:blipFill>
          <a:blip r:embed="rId1"/>
          <a:stretch/>
        </p:blipFill>
        <p:spPr>
          <a:xfrm>
            <a:off x="0" y="0"/>
            <a:ext cx="9234360" cy="693252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11"/>
          <p:cNvSpPr/>
          <p:nvPr/>
        </p:nvSpPr>
        <p:spPr>
          <a:xfrm>
            <a:off x="324000" y="981000"/>
            <a:ext cx="7991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66280" y="333360"/>
            <a:ext cx="7921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9489a"/>
                </a:solidFill>
                <a:latin typeface="Arial"/>
              </a:rPr>
              <a:t>Problematika regionálního rozvoje a programové dotace Pardubického kraje</a:t>
            </a:r>
            <a:endParaRPr b="0" lang="en-US" sz="3200" spc="-1" strike="noStrike">
              <a:solidFill>
                <a:srgbClr val="19489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9489a"/>
                </a:solidFill>
                <a:latin typeface="Arial"/>
              </a:rPr>
              <a:t>Seminář pro obce, DSO a MAS</a:t>
            </a: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9489a"/>
                </a:solidFill>
                <a:latin typeface="Arial"/>
              </a:rPr>
              <a:t>24. 10. 2017 Litomyšl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250920" y="3429000"/>
            <a:ext cx="78483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9489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HelveticaNeueLT Pro 55 Roman"/>
              </a:rPr>
              <a:t>Mgr. Miroslav Smej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9489a"/>
                </a:solidFill>
                <a:latin typeface="HelveticaNeueLT Pro 55 Roman"/>
              </a:rPr>
              <a:t>vedoucí odd. regionálního roz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9489a"/>
                </a:solidFill>
                <a:latin typeface="HelveticaNeueLT Pro 55 Roman"/>
              </a:rPr>
              <a:t>odbor rozvo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5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9489a"/>
                </a:solidFill>
                <a:latin typeface="Arial"/>
              </a:rPr>
              <a:t>Dotační programy Pardubického kraje</a:t>
            </a: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56" name="TextovéPole 3"/>
          <p:cNvSpPr/>
          <p:nvPr/>
        </p:nvSpPr>
        <p:spPr>
          <a:xfrm>
            <a:off x="539640" y="5805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ližší informace o dotačních programech na webu 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www.pardubickykraj.cz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 odkaz </a:t>
            </a:r>
            <a:r>
              <a:rPr b="1" i="1" lang="cs-CZ" sz="1800" spc="-1" strike="noStrike">
                <a:solidFill>
                  <a:srgbClr val="0099ff"/>
                </a:solidFill>
                <a:latin typeface="Calibri"/>
              </a:rPr>
              <a:t>Dotační progra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pododkaz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Probíhající dotační progra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324000" y="1001880"/>
            <a:ext cx="8448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604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9489a"/>
                </a:solidFill>
                <a:latin typeface="Arial"/>
              </a:rPr>
              <a:t>Dotační programy Pardubického kraje</a:t>
            </a: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60" name="TextovéPole 3"/>
          <p:cNvSpPr/>
          <p:nvPr/>
        </p:nvSpPr>
        <p:spPr>
          <a:xfrm>
            <a:off x="395280" y="4691160"/>
            <a:ext cx="827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19489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Calibri"/>
              </a:rPr>
              <a:t>jednotlivé programy obsahují pravidla pro poskytnutí dotace, vymezení žadatele, formulář žádosti, vzorovou smlouvu, formulář vyúčtování dotace („Zásady“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19489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19489a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19489a"/>
                </a:solidFill>
                <a:latin typeface="Calibri"/>
              </a:rPr>
              <a:t>programy jsou obvykle vyhlašovány na podzim (listopad) a příjem žádostí probíhá v lednu následujícího roku – pro rok 2018 vyhlášení 15. 11.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44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217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9489a"/>
                </a:solidFill>
                <a:latin typeface="Arial"/>
              </a:rPr>
              <a:t>Dotační programy Pardubického kraje</a:t>
            </a:r>
            <a:endParaRPr b="1" lang="en-US" sz="32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přehled obvykle vyhlašovaných dotačních programů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70c0"/>
                </a:solidFill>
                <a:latin typeface="Arial"/>
              </a:rPr>
              <a:t>Dotační programy Pk v oblasti územního plánování a regionálního rozvoje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odpora pořízení územních plánů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odpora realizace rozvojových projektů v problémových mikroregionech Pk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70c0"/>
                </a:solidFill>
                <a:latin typeface="Arial"/>
              </a:rPr>
              <a:t>Program podpory kultury a památkové péče v Pardubickém kraji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odprogram 1 - Podpora kulturních aktivit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odprogram 2 - Podpora preventivní péče o sbírky muzeí a galerií v Pardubickém kraji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odprogram 3 - Podpora stavební obnovy a restaurování kulturních památek a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drobných objektů památkového charakteru v Pardubickém kraji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odprogram 4 - Podpora subjektů činných v oblasti kultury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odprogram 5 - Příspěvky na provoz a návratná finanční výpomoc PO v oblasti kultury zřizov. Pk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odprogram 6 - Podpora Východočeského divadla a Komorní filharmonie Pardubice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9489a"/>
                </a:solidFill>
                <a:latin typeface="Arial"/>
              </a:rPr>
              <a:t>Dotační programy Pardubického kraje</a:t>
            </a: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98064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Dotační program Pk v oblasti podpory rozvoje vnějších a zahraničních vztahů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9489a"/>
                </a:solidFill>
                <a:latin typeface="Arial"/>
              </a:rPr>
              <a:t>Dotační program kanceláře hejtmana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Dotační program Pk v oblasti sociálních služeb, soc. podnikání a rozvoje neziskového sektoru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9489a"/>
                </a:solidFill>
                <a:latin typeface="Arial"/>
              </a:rPr>
              <a:t>Dotace na poskytování sociálních služeb</a:t>
            </a:r>
            <a:r>
              <a:rPr b="0" lang="cs-CZ" sz="2000" spc="-1" strike="noStrike">
                <a:solidFill>
                  <a:srgbClr val="19489a"/>
                </a:solidFill>
                <a:latin typeface="Arial"/>
              </a:rPr>
              <a:t> –MPSV-vyhlášeno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9489a"/>
                </a:solidFill>
                <a:latin typeface="Arial"/>
              </a:rPr>
              <a:t>Program podpory sociálních služeb v Pardubickém kraji- vyhlášeno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9489a"/>
                </a:solidFill>
                <a:latin typeface="Arial"/>
              </a:rPr>
              <a:t>Podpora sociálního podnikání</a:t>
            </a:r>
            <a:r>
              <a:rPr b="0" lang="en-US" sz="2000" spc="-1" strike="noStrike">
                <a:solidFill>
                  <a:srgbClr val="19489a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9489a"/>
                </a:solidFill>
                <a:latin typeface="Arial"/>
              </a:rPr>
              <a:t>Podpora fundraisingu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Dotační program v oblasti zd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ravotnictv</a:t>
            </a: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í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9489a"/>
                </a:solidFill>
                <a:latin typeface="Arial"/>
              </a:rPr>
              <a:t>Podpora lékařů připravujících se na poskytování zdravotní péče v oborech všeobecné praktické lékařství a praktické lékařství pro děti a dorost na území Pardubického kraje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9489a"/>
                </a:solidFill>
                <a:latin typeface="Arial"/>
              </a:rPr>
              <a:t>Dotační programy Pardubického kraje</a:t>
            </a: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98064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70c0"/>
                </a:solidFill>
                <a:latin typeface="Arial"/>
              </a:rPr>
              <a:t>Dotační programy Pk v oblasti ekovýchovy, péče o ŽP a zemědělství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Vzdělávání, výchova a osvěta v oblasti životního prostředí v Pardubickém kraji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éče o životní prostředí v Pardubickém kraji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odpora začínajících včelařů v Pardubickém kraji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Ostatní dotační tituly (vodohospodářské stavby, dotace na lesy apod.)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70c0"/>
                </a:solidFill>
                <a:latin typeface="Arial"/>
              </a:rPr>
              <a:t>Dotační programy v oblasti cestovního ruchu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Dotační program Podpora budování infrastruktury cestovního ruchu v Pardubickém kraji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Dotační program Podpora činnosti a provozu turistických informačních center v Pk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70c0"/>
                </a:solidFill>
                <a:latin typeface="Arial"/>
              </a:rPr>
              <a:t>Dotační programy v oblasti sportu a volnočasových aktivit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9489a"/>
                </a:solidFill>
                <a:latin typeface="Arial"/>
              </a:rPr>
              <a:t>Podpora v oblasti sportu a volnočasových aktivit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rogram B1: Podpora pravidelné činnosti sportovních organizací 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Arial"/>
              </a:rPr>
              <a:t>Program B2: Podpora handicapovaných sportovců 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489a"/>
                </a:solidFill>
                <a:latin typeface="Arial"/>
              </a:rPr>
              <a:t>Program B3: Podpora sportu pro všechny 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489a"/>
                </a:solidFill>
                <a:latin typeface="Arial"/>
              </a:rPr>
              <a:t>Program B4: Podpora sportovní reprezentace kraje 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489a"/>
                </a:solidFill>
                <a:latin typeface="Arial"/>
              </a:rPr>
              <a:t>Program B5: Podpora významných sportovních akcí 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19489a"/>
                </a:solidFill>
                <a:latin typeface="Arial"/>
              </a:rPr>
              <a:t>Program F1: Podpora volnočasových aktivit 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9489a"/>
                </a:solidFill>
                <a:latin typeface="Arial"/>
              </a:rPr>
              <a:t>Podpora výstavby, rekonstrukcí a oprav sportovních zařízení, pořízení investičního movitého majetku sportovních zařízení a organizací</a:t>
            </a: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51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9489a"/>
                </a:solidFill>
                <a:latin typeface="Arial"/>
              </a:rPr>
              <a:t>Dotační programy Pardubického kraje</a:t>
            </a:r>
            <a:endParaRPr b="1" lang="en-US" sz="2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Program obnovy venkova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ardubickykraj.cz/program-obnovy-venkova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Dotační program z oblasti dopravy – dopravní hřiště – nové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Finanční podpora jednotek SDH a ostatních složek IZS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</a:rPr>
              <a:t>Dotační program Podpora jednotek sboru dobrovolných hasičů obcí Pk na pořízení požární techniky a věcných prostředků požární ochrany na období 2017 – 2020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</a:rPr>
              <a:t>Dotační program Podpora NNO – ostatních složek IZS Pardubického kraje na pořízení materiálně – technického vybavení k zajištění akceschopnosti na období 2017 – 2020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97A-87A5-43AB-B833-7E0E6AB22152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66360" y="571320"/>
            <a:ext cx="777708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Regionální stálá konference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068480"/>
            <a:ext cx="831852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19489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V plánovacím období EU 2007-13 byly kraje  v poměrně vysoké míře zapojeny do agendy čerpání evropských fondů (ROPy, GG OPVK aj.).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19489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V novém období 2014 - 2020 jsou všechny operační programy řízeny z úrovně ministerstev, žádný program není regionální, Brusel naopak  akcentuje potřebu reagovat na potřeby území, nově se vyskytuje pojem tzv. územní dimenze.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19489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Na regionální úrovni tedy chybí článek, který by dával průběžné podněty, informace  o možnostech, potřebách a prioritách regionů vůči evropským fondům i národním programům.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19489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Na podnět MMR byly koncem roku 2014 ve všech  krajích ustaveny tzv. </a:t>
            </a:r>
            <a:r>
              <a:rPr b="1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Regionální stálé konference (RSK),</a:t>
            </a: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 složené ze zástupců krajů, velkých a malých měst, venkova, Místních akčních skupin (MAS), hospodářské komory, akademické sféry, NNO, úřadů práce aj.  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74" name="Zástupný symbol pro text 1"/>
          <p:cNvSpPr/>
          <p:nvPr/>
        </p:nvSpPr>
        <p:spPr>
          <a:xfrm>
            <a:off x="611280" y="14760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Představení problemat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BC45-D518-48C4-B80D-FC0870FB8B2D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10920" y="38376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Představení problematiky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1271160"/>
            <a:ext cx="878508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  <a:ea typeface="Calibri"/>
              </a:rPr>
              <a:t>Jde o dobrovolné regionální uskupení územních partnerů v oblasti místního a regionálního rozvoje na základě principu partnerství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  <a:ea typeface="Calibri"/>
              </a:rPr>
              <a:t>Struktura RSK Pk: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  <a:ea typeface="Calibri"/>
              </a:rPr>
              <a:t>předseda  - JUDr. Martin Netolický, PhD., hejtman Pk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  <a:ea typeface="Calibri"/>
              </a:rPr>
              <a:t>místopředseda - Ing. Miroslav Ludwig, CSc., rektor Univerzity Pardubice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  <a:ea typeface="Calibri"/>
              </a:rPr>
              <a:t>celkem 20 členů + stálí hosté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  <a:ea typeface="Calibri"/>
              </a:rPr>
              <a:t>Vybraní zástupci v RSK Pk: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  <a:ea typeface="Calibri"/>
              </a:rPr>
              <a:t>zástupce Svazu místních samospráv – Pavel Eliáš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  <a:ea typeface="Calibri"/>
              </a:rPr>
              <a:t>další zástupci za Pardubický kraj  - Mgr. Hana Štěpánová, Ing. Pavel Kalivoda, René Živný, Ing. Helena Zahálková, Ing. Martin Kiss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  <a:ea typeface="Calibri"/>
              </a:rPr>
              <a:t>	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    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78" name="Zástupný symbol pro text 1"/>
          <p:cNvSpPr/>
          <p:nvPr/>
        </p:nvSpPr>
        <p:spPr>
          <a:xfrm>
            <a:off x="345960" y="930240"/>
            <a:ext cx="856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Regionální stálá konference Pardubického kraje (RSK P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BBE2-191D-47EB-AC0E-51ADD811F9A1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93280" y="1125360"/>
            <a:ext cx="842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8088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Cílem pracovních skupin je tvorba podkladů, doporučení a návrhů pro RSK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380880" indent="-3808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</a:rPr>
              <a:t>Pracovní skupiny jsou zřizovány pro tematické oblasti určené pro realizaci RAP. Může jít např. o cestovní ruch, infrastrukturu, venkov, vzdělávání, zdravotnictví, soc. věci apod. Potřeba zřídit pracovní skupinu záleží na konkrétních podmínkách každého kraje.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V současné chvíli jsou při RSK Pk zřízeny tři pracovní skupiny: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085760" indent="-2854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PS Vzdělávání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085760" indent="-2854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PS Cestovní ruch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085760" indent="-2854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PS Sociální oblast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9489a"/>
                </a:solidFill>
                <a:uFillTx/>
                <a:latin typeface="HelveticaNeueLT Pro 55 Roman"/>
              </a:rPr>
              <a:t>PS Vzdělávání </a:t>
            </a: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je základní platformou pro tvorbu Krajského akčního plánu vzdělávání zaměřeného na oblast středního školství.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9489a"/>
                </a:solidFill>
                <a:uFillTx/>
                <a:latin typeface="HelveticaNeueLT Pro 55 Roman"/>
              </a:rPr>
              <a:t>PS Cestovní ruch </a:t>
            </a: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- prozatím proběhlo jedno jednání se zaměřením na připravovaný národní program pro podporu cestovního ruchu 2016+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9489a"/>
                </a:solidFill>
                <a:uFillTx/>
                <a:latin typeface="HelveticaNeueLT Pro 55 Roman"/>
              </a:rPr>
              <a:t>PS Sociální oblast </a:t>
            </a: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- prozatím proběhlo jedno jednání spíše informačního charakteru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81" name="Zástupný symbol pro text 1"/>
          <p:cNvSpPr/>
          <p:nvPr/>
        </p:nvSpPr>
        <p:spPr>
          <a:xfrm>
            <a:off x="250920" y="38412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Představení problematiky- pracovní skupiny při RSK P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1F3B-9F6A-4EA5-B679-6E0176689500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33000" y="91080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Servis pro činnosti RSK Pk včetně pracovních skupin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3360" y="1484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zajišťuje</a:t>
            </a:r>
            <a:r>
              <a:rPr b="1" lang="cs-CZ" sz="1800" spc="-1" strike="noStrike">
                <a:solidFill>
                  <a:srgbClr val="19489a"/>
                </a:solidFill>
                <a:latin typeface="HelveticaNeueLT Pro 55 Roman"/>
              </a:rPr>
              <a:t> Sekretariát RSK Pk v rámci oddělení reg. rozvoje OR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Byl schválen projekt na financování sekretariátu RSK Pk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18116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financování 100 % způsobilých výdajů z OP Technická pomoc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18116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doba realizace 01/2016 až 12/2017, připravujeme projekt na další dva roky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48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Hlavní činnosti sekretariátu RSK Pk: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18116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zajištění jednání RSK Pk a pracovních skupin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18116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zajištění aktualizace Regionálního akčního plánu Pk (RAP Pk)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18116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průběžné zjišťování absorpční kapacity území - zejména prostřednictvím databáze projektů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HelveticaNeueLT Pro 55 Roman"/>
                <a:hlinkClick r:id="rId1"/>
              </a:rPr>
              <a:t>www.rozvoj-pk.cz</a:t>
            </a: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18116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zajištění hodnocení dopadu čerpání evropských fondů na území Pk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18116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organizace seminářů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489a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85" name="Zástupný symbol pro text 1"/>
          <p:cNvSpPr/>
          <p:nvPr/>
        </p:nvSpPr>
        <p:spPr>
          <a:xfrm>
            <a:off x="611280" y="38412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Představení problemat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9489a"/>
                </a:solidFill>
                <a:latin typeface="Arial"/>
              </a:rPr>
              <a:t>Obsah vystoupení</a:t>
            </a:r>
            <a:endParaRPr b="1" lang="en-US" sz="32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2060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1948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Vybrané ukazatele Pardubického kraje v mapách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1948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19489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Dotační programy Pardubického kraje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3. Regionální stálá konference Pk, absorpční kapacita území Pk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BFA9-95DB-4391-816A-AFA1202ED2C8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61800" y="1628640"/>
            <a:ext cx="8353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Mapování absorpční kapacity a tvorba Regionálního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  <a:p>
            <a:pPr marL="260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akčního plánu Pardubického kraje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2200" y="299556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D0AF-5DB7-40FB-B077-FCC755E67BF9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353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Regionální akční plán Pardubického kraje (RAP Pk)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9440" y="1699920"/>
            <a:ext cx="8532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Základní dokument RSK založený na sběru dat z území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Zpracován v rozsahu a struktuře podle metodiky MMR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1. verze schválena na jednání RSK dne 29.5.2015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V roce 2016 úprava metodiky MMR týkající se rozsahu a struktury RAP + požadavek na každoroční aktualizaci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FINÁLNÍ verze RAP byla schválena RSK Pk 27.9.2017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Ambicí RAP je dávat podklady pro ŘO jednotlivých OP k přípravě výzev, případně pro koncipování národních podpůrných programů. Pomůže i kraji v nastavení jeho priorit v dané oblasti.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    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92" name="Zástupný symbol pro text 1"/>
          <p:cNvSpPr/>
          <p:nvPr/>
        </p:nvSpPr>
        <p:spPr>
          <a:xfrm>
            <a:off x="468360" y="18900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Mapování absorpční kapacity a tvorba Regionál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akčního plánu Pardubického k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5F3-9131-4D71-88B3-A1F55A8677E2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58560" y="1483920"/>
            <a:ext cx="8785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Dle metodiky MMR se RAP Pk skládá z: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textové části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tabulkové části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      </a:t>
            </a:r>
            <a:r>
              <a:rPr b="0" lang="cs-CZ" sz="1800" spc="-1" strike="noStrike" u="sng">
                <a:solidFill>
                  <a:srgbClr val="19489a"/>
                </a:solidFill>
                <a:uFillTx/>
                <a:latin typeface="Arial"/>
                <a:ea typeface="Calibri"/>
              </a:rPr>
              <a:t>Textová část: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Zdůvodňuje a popisuje </a:t>
            </a:r>
            <a:r>
              <a:rPr b="0" lang="cs-CZ" sz="1800" spc="-1" strike="noStrike" u="sng">
                <a:solidFill>
                  <a:srgbClr val="19489a"/>
                </a:solidFill>
                <a:uFillTx/>
                <a:latin typeface="Arial"/>
                <a:ea typeface="Calibri"/>
              </a:rPr>
              <a:t>26 hlavních aktivit </a:t>
            </a: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RAP Pk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Vazba aktivit na Strategii regionálního rozvoje ČR a Program rozvoje Pardubického kraje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948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Při tvorbě dokumentu se vycházelo z informací o absorpční kapacitě území zjišťované prostřednictvím portálu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ea typeface="Calibri"/>
                <a:hlinkClick r:id="rId1"/>
              </a:rPr>
              <a:t>www.rozvoj-pk.cz</a:t>
            </a: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 a z informací o prioritách krajských projektů v oblastech doprava, školství, kultura, zdravotnictví, sociální oblast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95" name="Zástupný symbol pro text 1"/>
          <p:cNvSpPr/>
          <p:nvPr/>
        </p:nvSpPr>
        <p:spPr>
          <a:xfrm>
            <a:off x="468360" y="47628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Mapování absorpční kapacity a tvorba Regionál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akčního plánu Pardubického kra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032E-1E41-49BD-A620-F2417C4B07CD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78508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9489a"/>
                </a:solidFill>
                <a:uFillTx/>
                <a:latin typeface="Arial"/>
                <a:ea typeface="Calibri"/>
              </a:rPr>
              <a:t>Tabulková část</a:t>
            </a: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 - obsahuje 5 listů: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9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Vazba aktivity RAP 2018-2019 na Strategii regionálního rozvoje ČR </a:t>
            </a: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(SRR)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26 hlavních aktivit RAP provázáno s opatřeními a aktivitami SRR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9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Aktivita Akčního plánu SRR ČR (AP SRR ČR)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110 aktivit AP SRR ČR z různých témat s požadavkem zhodnocení jejich významu pro rozvoj kraje (prioritizace aktivit na škále 0-5)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9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Vazba aktivity RAP na opatření/cíle Programu rozvoje kraje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26 hlavních aktivit RAP provázáno se strategickými cíli a opatřeními PRK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9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Financování RAP 2018-2019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26 hlavních aktivit RAP provázáno s aktivitami specifických cílů jednotlivých operačních programů, případně jiných (národních) dotačních programů. 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9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Finanční plán RAP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9489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Arial"/>
                <a:ea typeface="Calibri"/>
              </a:rPr>
              <a:t>uvedení celkových nákladů projektů pro období 2018, 2019 a dále v členění aktivit RAP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98" name="Zástupný symbol pro text 1"/>
          <p:cNvSpPr/>
          <p:nvPr/>
        </p:nvSpPr>
        <p:spPr>
          <a:xfrm>
            <a:off x="372960" y="404640"/>
            <a:ext cx="835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Mapování absorpční kapacity a tvorba Regionál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akčního plánu Pardubického kra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58B-E7FF-4472-8EE2-502134541DFE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10920" y="1330200"/>
            <a:ext cx="78483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Analýza absorpční kapacity území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9840" y="1915920"/>
            <a:ext cx="8424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Pardubický kraj má dlouhodobé zkušenosti s problematikou evropských fondů jak na straně poskytovatele, tak na straně příjemce.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Jako zdroj informací o připravovaných projektech Pardubický kraj využívá elektronickou aplikaci www.rozvoj-pk.cz. Východiskem pro členění projektů v databázi jsou operační programy a jejich specifické cíle.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Záměry lze do databáze vkládat kontinuálně. Subjekty v území jsou rovněž průběžně vyzývány k zadávání a aktualizaci svých projektových záměrů     (při zadávání je nutná koordinace MAS Pk, obcí, RRA Pk a samotného kraje pro zabránění duplicitních projektů).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489a"/>
                </a:solidFill>
                <a:latin typeface="HelveticaNeueLT Pro 55 Roman"/>
              </a:rPr>
              <a:t>Databáze je využívána jak k tvorbě dílčích materiálů požadovaných RSK Pk a ŘO, tak k aktualizaci RAP Pk.</a:t>
            </a: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02" name="Zástupný symbol pro text 1"/>
          <p:cNvSpPr/>
          <p:nvPr/>
        </p:nvSpPr>
        <p:spPr>
          <a:xfrm>
            <a:off x="372960" y="404640"/>
            <a:ext cx="835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Mapování absorpční kapacity a tvorba Regionál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akčního plánu Pardubického k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DAB2-51E1-4345-ADBC-EC502AD3115E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20072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Databáze projektů www.rozvoj-pk.cz </a:t>
            </a:r>
            <a:endParaRPr b="0" lang="en-US" sz="24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05" name="Zástupný symbol pro text 3"/>
          <p:cNvSpPr/>
          <p:nvPr/>
        </p:nvSpPr>
        <p:spPr>
          <a:xfrm>
            <a:off x="282600" y="1592280"/>
            <a:ext cx="8712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V současné době databáze obsahuje přes 2 700 záměrů, ze kterých cca 40 %</a:t>
            </a:r>
            <a:r>
              <a:rPr b="0" lang="cs-CZ" sz="1600" spc="-1" strike="noStrike">
                <a:solidFill>
                  <a:srgbClr val="ff0000"/>
                </a:solidFill>
                <a:latin typeface="HelveticaNeueLT Pro 55 Roman"/>
              </a:rPr>
              <a:t> 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tvoří projekty s poměrně vysokou možností uplatnění v programovém období 2014–2020. Celkové předpokládané finanční náklady vložených záměrů činí cca 45 mld. Kč (včetně 12ti projektů SŽDC s náklady cca 20,69 mld. Kč). V databázi nejsou vloženy projekty kra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20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Vzhledem k počtu projektů i k jejich finančnímu objemu a zejména ke stávajícím možnostem operačních programů jsou v databázi nejvíce zastoupeny projekty v oblasti cyklodopravy, infrastruktury ve vzdělávání, vodohospodářské infrastruktury a úspory energi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20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Projekty bez možného uplatnění ve stávajících operačních programech jsou důležitým zdrojem informací při jednání s ministerstvy o zacílení národních dotačních program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201"/>
              </a:spcBef>
              <a:buClr>
                <a:srgbClr val="19489a"/>
              </a:buClr>
              <a:buFont typeface="HelveticaNeueLT Pro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      </a:t>
            </a:r>
            <a:r>
              <a:rPr b="0" lang="cs-CZ" sz="1600" spc="-1" strike="noStrike" u="sng">
                <a:solidFill>
                  <a:srgbClr val="19489a"/>
                </a:solidFill>
                <a:uFillTx/>
                <a:latin typeface="HelveticaNeueLT Pro 55 Roman"/>
              </a:rPr>
              <a:t>Kontaktní osoby ve věci databáze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      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Ing. Štěpánka Makarová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	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	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                      Mgr. Miroslav Smejk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      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stepanka.makarova@pardubicky.kraj.cz                 miroslav.smejkal@pardubickykraj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      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tel.: 466 026 307    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	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	</a:t>
            </a:r>
            <a:r>
              <a:rPr b="0" lang="cs-CZ" sz="1600" spc="-1" strike="noStrike">
                <a:solidFill>
                  <a:srgbClr val="19489a"/>
                </a:solidFill>
                <a:latin typeface="HelveticaNeueLT Pro 55 Roman"/>
              </a:rPr>
              <a:t>                      tel.: 466 026 3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ástupný symbol pro text 1"/>
          <p:cNvSpPr/>
          <p:nvPr/>
        </p:nvSpPr>
        <p:spPr>
          <a:xfrm>
            <a:off x="284040" y="15084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Mapování absorpční kapacity a tvorba Regionál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akčního plánu Pardubického kra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8183-2A0B-460D-97FD-06EF64DA46F6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9720" y="106812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9489a"/>
                </a:solidFill>
                <a:latin typeface="Arial"/>
              </a:rPr>
              <a:t>Databáze projektů www.rozvoj-pk.cz 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9489a"/>
                </a:solidFill>
                <a:latin typeface="Arial"/>
              </a:rPr>
              <a:t>souhrnné statistiky podle subjektů k 1.10.2017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49240" y="2014560"/>
          <a:ext cx="7467840" cy="3270240"/>
        </p:xfrm>
        <a:graphic>
          <a:graphicData uri="http://schemas.openxmlformats.org/drawingml/2006/table">
            <a:tbl>
              <a:tblPr/>
              <a:tblGrid>
                <a:gridCol w="2030400"/>
                <a:gridCol w="1101960"/>
                <a:gridCol w="1368360"/>
                <a:gridCol w="1728720"/>
                <a:gridCol w="1238400"/>
              </a:tblGrid>
              <a:tr h="7311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jek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projek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íl na celku (v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lkové předpokládané náklady (v mil.Kč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íl na celku (v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řejná sprá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8 28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ziskové organiz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 </a:t>
                      </a: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dnikatelský s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 26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2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koly a školská zařízen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ostatní subjek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 8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1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lk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    </a:t>
                      </a:r>
                      <a:r>
                        <a:rPr b="1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5 1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ovéPole 5"/>
          <p:cNvSpPr/>
          <p:nvPr/>
        </p:nvSpPr>
        <p:spPr>
          <a:xfrm>
            <a:off x="6010200" y="5305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zn.: bez projektů SŽDC a kr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text 1"/>
          <p:cNvSpPr/>
          <p:nvPr/>
        </p:nvSpPr>
        <p:spPr>
          <a:xfrm>
            <a:off x="538200" y="19368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Mapování absorpční kapacity a tvorba Regionál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akčního plánu Pardubického k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pro číslo snímku 1"/>
          <p:cNvSpPr/>
          <p:nvPr/>
        </p:nvSpPr>
        <p:spPr>
          <a:xfrm>
            <a:off x="133200" y="5300640"/>
            <a:ext cx="478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E4B8-8E72-44E6-850A-CDF6828C5E31}" type="slidenum">
              <a:rPr b="1" lang="cs-CZ" sz="1400" spc="-1" strike="noStrike">
                <a:solidFill>
                  <a:srgbClr val="19489a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29720" y="106812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9489a"/>
                </a:solidFill>
                <a:latin typeface="Arial"/>
              </a:rPr>
              <a:t>Databáze projektů www.rozvoj-pk.cz 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9489a"/>
                </a:solidFill>
                <a:latin typeface="Arial"/>
              </a:rPr>
              <a:t>souhrnné statistiky podle subjektů k 1.10.2017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489a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49240" y="2349360"/>
          <a:ext cx="7467840" cy="2159280"/>
        </p:xfrm>
        <a:graphic>
          <a:graphicData uri="http://schemas.openxmlformats.org/drawingml/2006/table">
            <a:tbl>
              <a:tblPr/>
              <a:tblGrid>
                <a:gridCol w="2030400"/>
                <a:gridCol w="1476360"/>
                <a:gridCol w="2232000"/>
                <a:gridCol w="1729080"/>
              </a:tblGrid>
              <a:tr h="4651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měření projek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projek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ení projek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projekt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Životní prostřed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tur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átková péč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zdělá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ální obl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etické úsp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inov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dravotnic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ovéPole 5"/>
          <p:cNvSpPr/>
          <p:nvPr/>
        </p:nvSpPr>
        <p:spPr>
          <a:xfrm>
            <a:off x="5997600" y="45259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zn.: bez projektů SŽDC a kr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1"/>
          <p:cNvSpPr/>
          <p:nvPr/>
        </p:nvSpPr>
        <p:spPr>
          <a:xfrm>
            <a:off x="538200" y="19368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Mapování absorpční kapacity a tvorba Regionál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9489a"/>
                </a:solidFill>
                <a:latin typeface="Arial"/>
              </a:rPr>
              <a:t>akčního plánu Pardubického k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5280" y="1700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9489a"/>
                </a:solidFill>
                <a:latin typeface="Arial"/>
              </a:rPr>
              <a:t>Děkuji za pozornost</a:t>
            </a:r>
            <a:endParaRPr b="1" lang="en-US" sz="36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35120" y="2923920"/>
            <a:ext cx="7632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9489a"/>
                </a:solidFill>
                <a:latin typeface="HelveticaNeueLT Pro 55 Roman"/>
              </a:rPr>
              <a:t>Mgr. Miroslav Smejkal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9489a"/>
                </a:solidFill>
                <a:latin typeface="HelveticaNeueLT Pro 55 Roman"/>
              </a:rPr>
              <a:t>vedoucí odd. regionálního rozvoje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9489a"/>
                </a:solidFill>
                <a:latin typeface="HelveticaNeueLT Pro 55 Roman"/>
              </a:rPr>
              <a:t>odbor rozvoje 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9489a"/>
                </a:solidFill>
                <a:latin typeface="HelveticaNeueLT Pro 55 Roman"/>
              </a:rPr>
              <a:t>email: </a:t>
            </a:r>
            <a:r>
              <a:rPr b="0" lang="cs-CZ" sz="2000" spc="-1" strike="noStrike">
                <a:solidFill>
                  <a:srgbClr val="19489a"/>
                </a:solidFill>
                <a:latin typeface="Arial"/>
              </a:rPr>
              <a:t>miroslav.smejkal@pardubickykraj.cz 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9489a"/>
                </a:solidFill>
                <a:latin typeface="HelveticaNeueLT Pro 55 Roman"/>
              </a:rPr>
              <a:t>tel: 466 026 306</a:t>
            </a:r>
            <a:endParaRPr b="0" lang="en-US" sz="2000" spc="-1" strike="noStrike">
              <a:solidFill>
                <a:srgbClr val="19489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6000" spc="-1" strike="noStrike">
              <a:solidFill>
                <a:srgbClr val="19489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19489a"/>
              </a:solidFill>
              <a:latin typeface="Arial"/>
            </a:endParaRPr>
          </a:p>
        </p:txBody>
      </p:sp>
      <p:pic>
        <p:nvPicPr>
          <p:cNvPr id="48" name="Obrázek 3" descr="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ázek 1" descr="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ázek 1" descr="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rázek 1" descr="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rázek 3" descr="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6:32:56Z</dcterms:created>
  <dc:creator>tusl</dc:creator>
  <dc:description/>
  <dc:language>en-US</dc:language>
  <cp:lastModifiedBy>Smejkal Miroslav Mgr.</cp:lastModifiedBy>
  <cp:lastPrinted>2016-06-24T10:01:24Z</cp:lastPrinted>
  <dcterms:modified xsi:type="dcterms:W3CDTF">2017-10-24T05:31:57Z</dcterms:modified>
  <cp:revision>240</cp:revision>
  <dc:subject/>
  <dc:title>Snímek 1</dc:title>
</cp:coreProperties>
</file>